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8871F-7D90-47F3-8CA9-8F74628F6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92E57-DCF4-4181-893C-21C4FEE6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C874E-3234-4691-AE26-BF08D26CB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DA630-F1CB-4DB6-A960-CB12E225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4ADC-0E90-4EA6-A748-03567FDDF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6C88-E6A3-446A-BEBB-7AA9DBB8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541D-C48F-4BE3-A7E5-B2CEE824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2CE9-312C-4B06-B6E3-DC9D8693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E2B5-4F25-4F07-87DB-F9306313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C3C1-8A76-4F3D-86C5-E2DB83D4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EFB7-C61B-4D67-9CBA-812E1209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38863-4A64-40B3-B61C-E9D7EECB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8790-C08E-4B7A-ACB9-C5F2AE2B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E1BB-BCCD-4510-9CC7-AA22B338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0E32-B244-47B1-9B98-1A1EC146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F366-8EB1-4236-B5AB-DA94470CF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D215-010C-4474-B199-B9AC4F83E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02847-94EB-4130-8461-41B7A51A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79212-0735-48B0-B82D-9B772747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19C11-753D-481B-AB9B-ED5A8031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D7B02-4553-4F9A-B262-187A9626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B85E5-168F-46A8-AB90-86330081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C2125-E9E3-4B22-AA41-FF79EF47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A2F84-DA92-4C13-81FE-E90A52A8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11CF-A1B9-485F-8230-BC33D531E5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3CFE-0396-400A-A6BE-695DD28D72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Financial integration in post-soviet spac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na Abalkin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aku, 2010, 27 m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-border invest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30 CIS banks which have operating subsidiaries in the regi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banks they control increased to 6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8 banks’ cross-border investments in the authorized capital of CIS credit institutions reached $4bln (total assets of controlled banks stood at $26,8bl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1947960"/>
            <a:ext cx="4032360" cy="2057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8360" y="4356000"/>
            <a:ext cx="4032360" cy="2025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23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9080" y="3789000"/>
            <a:ext cx="27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 host country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9080" y="1627920"/>
            <a:ext cx="29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 home country bank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ule of single pri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st volumes of capital movement among post-Soviet countries are the reason for the high differentiation in monetary parameters, (Vernikov,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84360" y="1989000"/>
          <a:ext cx="3855960" cy="21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385596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4643280" y="2104920"/>
            <a:ext cx="403884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harmonized price for credit resources acts as a precondition of the integrated banking market, greater banking cooperation does not lead to such harmon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 of the modern financial crisis indicates that the scale of banking integration incre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inancial crisis also promoted inter-governmental discussions on common mechanisms to stabilize econom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measures are not sufficient to stabilize regional economies during financial breakdow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ghtening credit markets, decreasing export revenues and economic recession   necessitate the reduction of the CIS countries dependence on international financial markets and the development of regional capital and monetary marke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asian bond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certain obstacles to its achievement, for instance, the absence of sovereign ratings for some countri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 markets can be developed through the redistribution mechanism of multilateral development banks (raising funds through bonds and transforming them into loan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center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t investment position of selected CIS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39640" y="1989000"/>
          <a:ext cx="8209080" cy="421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89000"/>
                    <a:ext cx="820908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837440" y="2349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m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al monetary 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st usage of local curr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ffectiveness of usage of foreign currencies during crisis times because fluctuations of exchange rates of local currencies are less against each other than against US dollar or eur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shina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change rate of Kazakh tenge vs Russian ruble fell by 1% from 2008, August till 2009,August. At the same time the exchange rate of dollar rose by 26% and euro by 23% against ten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the same period the exchange rate of Russian ruble against Ukrainian hryvna rose by 25%, thus dollar rose against hryvna by 65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eralization of their monetary marke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IS banks development tr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 in financial markets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y still remain highly vulnerabl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mited role of banking sys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e on global financial market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espite considerable improvement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IS regio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banking systems, regional banking markets are quite poor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tegrated and differ widely in terms of the structure and size of the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ncial intermediation: regional comparis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ssets/GDP,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6920" y="2130480"/>
            <a:ext cx="741708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ets of the CIS banking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9640" y="1484280"/>
          <a:ext cx="8353440" cy="493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8353440" cy="49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321640" y="17208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 m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s of financial 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sis hit financial markets of the CIS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question – stabilization of their financial markets and development of regional capital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models of financial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financial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single financial mark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of single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al of restrictions on mark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 Asian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development of financial market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gi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e national legisl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ount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nd bilateral and multilateral agreements between them do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stablish preferential banking regulations for owners of ban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ho originate fr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favoured nation treatment (MFN) is now granted to bank founders from the CIS countries, as it is to other non-resident shareholders, but MFN allows to apply restrictions for foreign financial organi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asian economic community initiative to built common financial mar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king cooperation of the C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 soviet space is one of few regions where credit institutions from CIS have favorable perspectives to develop banking 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vel of development of banking systems of CIS countries doesn’t allow their banks to compete with commercial banks originated from developed countri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soviet space corresponds to the possibilities of CIS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ng cooperation is often indicates the level of economic interaction between home and host countri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asymmetric participation of CIS banks speaks for fragmentariness of bilateral economic cooperation in the region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IS banks on post-soviet space: regional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expansion of the CIS banks is asymmetri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banks (mainly Russian) became the key players in mergers and acquisitions in post-soviet space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institutions from post-soviet space increase their role in banking systems of neighboring countri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banks have emerged whose development strategies involve expansion into post-Soviet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national banks of the CIS reg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392720"/>
        </p:xfrm>
        <a:graphic>
          <a:graphicData uri="http://schemas.openxmlformats.org/drawingml/2006/table">
            <a:tbl>
              <a:tblPr/>
              <a:tblGrid>
                <a:gridCol w="1811160"/>
                <a:gridCol w="1295640"/>
                <a:gridCol w="1871640"/>
                <a:gridCol w="1728720"/>
                <a:gridCol w="1522440"/>
              </a:tblGrid>
              <a:tr h="80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me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ssets in the CIS region, $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capital in the CIS region, $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subsidia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T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88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60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nesheconom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28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akh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8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commerz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akh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7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er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3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 of Mosc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zprom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vat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s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7:44:08Z</dcterms:created>
  <dc:creator>Samsung_Q310</dc:creator>
  <dc:description/>
  <dc:language>en-US</dc:language>
  <cp:lastModifiedBy>Samsung_Q310</cp:lastModifiedBy>
  <dcterms:modified xsi:type="dcterms:W3CDTF">2010-05-27T07:52:45Z</dcterms:modified>
  <cp:revision>31</cp:revision>
  <dc:subject/>
  <dc:title>Financial integration in post soviet space</dc:title>
</cp:coreProperties>
</file>